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iscuss BWDSB model here – also refer to EduGAINS  board supports – Adobe Presenters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urt Lewen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obianco, and others 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DCAF-94AF-4CC8-8F92-ED2A788D236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t occurs over time (5 months for us with fractions) and is modified to align with the teachers’ needs and find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ext from TMERC Collaborative Action Research Digital Paper (www.tmerc.c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KNAER_Trent_Benefits of Professional Learning (1:45 min)  - benefits of same lesson in different classrooms and also focus on one content area ove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econd video Slow it down (3:25 – 5:15 – play this by 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ath instructional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ICE: Ideally we want our Professional Development opportunities to be powerful enough that they make us think, question, want to learn more and change our practi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hink that this Collaborative Research Project was that kind of P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3AD7-AD9C-4F9D-979C-ECEEF25CF32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ICE: Ideally we want our Professional Development opportunities to be powerful enough that they make us think, question, want to learn more and change our practi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hink that this Collaborative Research Project was that kind of P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0F71-5726-4CB5-9FCF-F473946E15E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635E-E516-48CE-B89F-BDF90FF38C2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y Bruce…Across multiple studies, there is clear evidence that sustained, iterative, teacher-directed and collaborative models of professional learning support significant gains in teacher efficac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C166-616E-45B7-827F-402D1BCE74A0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y Bruce…Across multiple studies, there is clear evidence that sustained, iterative, teacher-directed and collaborative models of professional learning support significant gains in teacher efficac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 versus the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sual model of the difference between what we are calling PD and 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AD4A-1996-41E9-B8CD-24CC2A871C90}" type="slidenum"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key characteristics of 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ainly not classroom embe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how to overcome some of the challe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really collaborati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key characteristics of 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ainly not classroom embe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how to overcome some of the challe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really collaborati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26615-1C69-4946-9A7B-BB95EEE9FA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17793-2234-456F-A776-BD8F77B833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84382-86B6-486A-97F9-4A7444BB5E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1DC43-F00E-495F-AAB9-0A59A6DB11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E9658-A005-4A09-BCA9-097A7FFC45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3DDC1-F091-499C-B9F7-27F2AEA8FF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864E9-C36F-4706-81F3-93E7F7D624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17E28-A3E5-4DC5-BA7F-672DF12119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49CB9-148B-47E7-8EF1-9F6DD3E941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CBFEB-63B1-43CB-863F-9F6B8E280F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C4082-4041-445F-987F-9165120155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1C6F9-D592-40D3-BA7C-8DD529DD2D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9547-5BF0-4043-A30C-ADD6100FC7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hyperlink" Target="mailto:cathybruce@trentu.ca" TargetMode="External"/><Relationship Id="rId4" Type="http://schemas.openxmlformats.org/officeDocument/2006/relationships/hyperlink" Target="http://www.tmerc.ca/" TargetMode="External"/><Relationship Id="rId5" Type="http://schemas.openxmlformats.org/officeDocument/2006/relationships/hyperlink" Target="mailto:shelley.yearly@tldsb.on.ca" TargetMode="Externa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essonresearch.net/DeeperLookatLS.pdf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F498-2DF6-4D55-8661-DB13656574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490d8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Best Thinking About… Professional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2"/>
          <a:stretch/>
        </p:blipFill>
        <p:spPr>
          <a:xfrm>
            <a:off x="2666880" y="762120"/>
            <a:ext cx="4038840" cy="2374920"/>
          </a:xfrm>
          <a:prstGeom prst="rect">
            <a:avLst/>
          </a:prstGeom>
          <a:ln w="0">
            <a:noFill/>
          </a:ln>
        </p:spPr>
      </p:pic>
      <p:sp>
        <p:nvSpPr>
          <p:cNvPr id="90" name="TextBox 1"/>
          <p:cNvSpPr/>
          <p:nvPr/>
        </p:nvSpPr>
        <p:spPr>
          <a:xfrm>
            <a:off x="380880" y="48769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hy Bru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athybruce@trentu.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tmerc.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ey Year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helley.yearly@tldsb.on.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Math Knowledge For Teaching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A774-0087-4AF7-8127-DEB6DB2B6B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Impact of MKT 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294920"/>
            <a:ext cx="822960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Developing MKT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1294920"/>
            <a:ext cx="822960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2b5ca9"/>
                </a:solidFill>
                <a:latin typeface="Arial"/>
              </a:rPr>
              <a:t>Why this is important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Some Professional Learning Models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560" y="13716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orksh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ebinars/on-line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sson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-planning, co-teaching, de-brief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qui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nsition PL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47960" y="12952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95000"/>
          </a:bodyPr>
          <a:p>
            <a:pPr marL="36324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monstration class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24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24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llaborative Assessment/Resourc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24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llaborative Action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24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24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24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1ADD-41CF-4FE7-B9EE-1C38B754C3C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6092"/>
                </a:solidFill>
                <a:latin typeface="Arial"/>
              </a:rPr>
              <a:t>Characteristics of Teacher Inquiry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0880" y="1066320"/>
            <a:ext cx="4191120" cy="4343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v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ipr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Capacity building series,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ontent Placeholder 2"/>
          <p:cNvSpPr/>
          <p:nvPr/>
        </p:nvSpPr>
        <p:spPr>
          <a:xfrm>
            <a:off x="4738680" y="1066680"/>
            <a:ext cx="3948120" cy="4343400"/>
          </a:xfrm>
          <a:prstGeom prst="rect">
            <a:avLst/>
          </a:prstGeom>
          <a:solidFill>
            <a:srgbClr val="edf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we consider ad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Teacher direc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eacher as agent and decision mak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Activist 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acti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ic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ther key characteristics? (to think ab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91440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6092"/>
                </a:solidFill>
                <a:latin typeface="Arial"/>
              </a:rPr>
              <a:t>How Do These Fit Together?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9" name="TextBox 5"/>
          <p:cNvSpPr/>
          <p:nvPr/>
        </p:nvSpPr>
        <p:spPr>
          <a:xfrm>
            <a:off x="0" y="1546200"/>
            <a:ext cx="9144000" cy="5639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road Context of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6"/>
          <p:cNvSpPr/>
          <p:nvPr/>
        </p:nvSpPr>
        <p:spPr>
          <a:xfrm>
            <a:off x="457200" y="2122560"/>
            <a:ext cx="8229600" cy="4735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3948120" y="2146320"/>
            <a:ext cx="36529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qui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rigins as old as humanki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7"/>
          <p:cNvSpPr/>
          <p:nvPr/>
        </p:nvSpPr>
        <p:spPr>
          <a:xfrm>
            <a:off x="2395440" y="3809880"/>
            <a:ext cx="6559560" cy="2587680"/>
          </a:xfrm>
          <a:prstGeom prst="ellipse">
            <a:avLst/>
          </a:prstGeom>
          <a:solidFill>
            <a:srgbClr val="f1f9f9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5272200" y="4033800"/>
            <a:ext cx="296388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al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ince University of Chicago Laboratory School, around 19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9"/>
          <p:cNvSpPr/>
          <p:nvPr/>
        </p:nvSpPr>
        <p:spPr>
          <a:xfrm>
            <a:off x="2154240" y="2862360"/>
            <a:ext cx="2556000" cy="2327040"/>
          </a:xfrm>
          <a:prstGeom prst="ellipse">
            <a:avLst/>
          </a:prstGeom>
          <a:solidFill>
            <a:srgbClr val="c2edf2">
              <a:alpha val="52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1916280" y="2833560"/>
            <a:ext cx="29876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rigins in social activis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30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"/>
          <p:cNvSpPr/>
          <p:nvPr/>
        </p:nvSpPr>
        <p:spPr>
          <a:xfrm>
            <a:off x="2973240" y="4179960"/>
            <a:ext cx="1143000" cy="915840"/>
          </a:xfrm>
          <a:prstGeom prst="ellipse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820960" y="4176720"/>
            <a:ext cx="1503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labo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ast 20 y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649440" y="4565520"/>
            <a:ext cx="15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-planning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-tea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4"/>
          <p:cNvSpPr/>
          <p:nvPr/>
        </p:nvSpPr>
        <p:spPr>
          <a:xfrm>
            <a:off x="557280" y="3564000"/>
            <a:ext cx="1503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acher and classro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qui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5"/>
          <p:cNvSpPr/>
          <p:nvPr/>
        </p:nvSpPr>
        <p:spPr>
          <a:xfrm>
            <a:off x="1163520" y="5396040"/>
            <a:ext cx="15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ok study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deo stu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"/>
          <p:cNvSpPr/>
          <p:nvPr/>
        </p:nvSpPr>
        <p:spPr>
          <a:xfrm>
            <a:off x="4926960" y="6745320"/>
            <a:ext cx="365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ant bird’s nest on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Collaborative Action Research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294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E701-6F4A-4B80-A233-8BEB585082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" descr="Digital Papers - TMERC.ca - Google Chrome"/>
          <p:cNvPicPr/>
          <p:nvPr/>
        </p:nvPicPr>
        <p:blipFill>
          <a:blip r:embed="rId1"/>
          <a:srcRect l="20343" t="7778" r="20343" b="-509"/>
          <a:stretch/>
        </p:blipFill>
        <p:spPr>
          <a:xfrm>
            <a:off x="2819520" y="2057400"/>
            <a:ext cx="4203720" cy="35622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3"/>
          <p:cNvSpPr/>
          <p:nvPr/>
        </p:nvSpPr>
        <p:spPr>
          <a:xfrm>
            <a:off x="457200" y="1198440"/>
            <a:ext cx="8229600" cy="3751560"/>
          </a:xfrm>
          <a:prstGeom prst="rect">
            <a:avLst/>
          </a:prstGeom>
          <a:solidFill>
            <a:srgbClr val="f1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process of action research allows educator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flect on an issue or a problem relevant to their teach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o determine what research question(s) they are trying to answ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o implement an intervention designed to address the probl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o collect and analyse data to determine if their intervention is having an effect, a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o implement changes in their practice based on their f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"/>
          <p:cNvSpPr/>
          <p:nvPr/>
        </p:nvSpPr>
        <p:spPr>
          <a:xfrm>
            <a:off x="5638680" y="5181480"/>
            <a:ext cx="2286000" cy="459720"/>
          </a:xfrm>
          <a:prstGeom prst="rect">
            <a:avLst/>
          </a:prstGeom>
          <a:solidFill>
            <a:srgbClr val="4597a0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www.tmerc.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Models: Looks like / Doesn</a:t>
            </a:r>
            <a:r>
              <a:rPr b="0" lang="ja-JP" sz="4000" spc="-1" strike="noStrike">
                <a:solidFill>
                  <a:srgbClr val="2b5ca9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t look like 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294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sure what you are thinking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2b5ca9"/>
                </a:solidFill>
                <a:latin typeface="Arial"/>
              </a:rPr>
              <a:t>What we learned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361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2b5ca9"/>
                </a:solidFill>
                <a:latin typeface="Arial"/>
              </a:rPr>
              <a:t>Powerful Professional Learning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193240" cy="4167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about… a professional learning experience that has been particularly important in supporting improved practice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e a quick note about what it was and why it was so power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Keep this in mind through the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392A-2418-4B42-A3CF-33912C52E15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Teacher Impact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73" name="KNAER_Trent_Jan11_2012_S06_Benefits of Professional Learning_21April12.mov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17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9A94-E9BC-4C9E-A128-D0E90D58B78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0" dur="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4582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Avoiding Pitfalls Of Professional Learning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294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yth: no budget for release time = no p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yth: no planning needed just show up (carefully plan content, strategies, dynamics and trajectori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yth: drop in-between meeting/session activ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yth: PLC is separate from CIL-M 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ing CIL-M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from Inqui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yth: Growing quickly will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o is a knowledgeable other? How do they facilitate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coach is a coach (no special training, and don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 need support themselv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2b5ca9"/>
                </a:solidFill>
                <a:latin typeface="Arial"/>
              </a:rPr>
              <a:t>Integrating this knowledge (Consolidate)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B2C0-C7B7-4ECB-BB1D-8A6CAD8E82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What opportunities can you create for…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294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lowing it d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staining focus on a precise content pie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uilding purposeful professional learning networks with research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pporting teachers as co-learn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D143-7363-416F-BE88-E39DD036791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Why High Quality Math PL Is Important?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4479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cy (empowerment, ownership and constructive urgenc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learning (close attention to student work, listening and notic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inability (will and capacity to contin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 effic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b5ca9"/>
                </a:solidFill>
                <a:latin typeface="Arial"/>
              </a:rPr>
              <a:t>The Compelling Why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294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st reforms stop short at the classroom door; all available evidence suggests that classroom practice has changed little in the past 100 yea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wis, Perry &amp; Hurd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 Deeper Look at Lesson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ducational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b5ca9"/>
                </a:solidFill>
                <a:latin typeface="Arial"/>
              </a:rPr>
              <a:t>The Compelling Why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ter-Wright’s 2009 review of over 200 studies on PD and PL found that “professionals learn from experience and that learning is ongoing through active engagement in practice” (p. 723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 vast majority of educational PD programs have separated the learning opportunities from natural contexts and from pract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: 1. teachers need fixing up; 2. learning out of context will be translated to classroom with ease; 3. others know best what teachers ne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2b5ca9"/>
                </a:solidFill>
                <a:latin typeface="Arial"/>
              </a:rPr>
              <a:t>Five Characteristics of Effective Professional Learning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88000"/>
          </a:bodyPr>
          <a:p>
            <a:pPr marL="33660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five characteristics should be considered by anyone charged with, or seeking to provide professional learning experiences for Ontari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) Coh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) Attention to Adult Learning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) Goal-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) Sustai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) Evidence-in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800600" y="4952880"/>
            <a:ext cx="41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ommendations to the Partnership Table on Teacher Professional Learning (200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2b5ca9"/>
                </a:solidFill>
                <a:latin typeface="Arial"/>
              </a:rPr>
              <a:t>Characteristics of Effective Professional Learning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47840" y="15235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ross multiple studies, there is clear evidence that sustained, iterative, teacher-directed and collaborative models of professional learning support significant gains in teacher effica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500720" y="4572000"/>
            <a:ext cx="417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Arial"/>
              </a:rPr>
              <a:t>Dr. Cathy Bruc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Arial"/>
              </a:rPr>
              <a:t>Science &amp; Technology Education Group (201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Arial"/>
              </a:rPr>
              <a:t>Bruce, Esmonde, Ross, Gookey, Beatty , 20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3"/>
          <p:cNvSpPr/>
          <p:nvPr/>
        </p:nvSpPr>
        <p:spPr>
          <a:xfrm>
            <a:off x="84960" y="74520"/>
            <a:ext cx="871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9600" indent="-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b5ca9"/>
                </a:solidFill>
                <a:latin typeface="Arial"/>
              </a:rPr>
              <a:t>Explanatory Diagram: The W Eff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1676520" y="1066680"/>
            <a:ext cx="7010280" cy="4419720"/>
          </a:xfrm>
          <a:prstGeom prst="rect">
            <a:avLst/>
          </a:prstGeom>
          <a:solidFill>
            <a:srgbClr val="d9d9d9">
              <a:alpha val="16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5"/>
          <p:cNvSpPr/>
          <p:nvPr/>
        </p:nvSpPr>
        <p:spPr>
          <a:xfrm>
            <a:off x="1676520" y="3182760"/>
            <a:ext cx="7010280" cy="2286000"/>
          </a:xfrm>
          <a:prstGeom prst="roundRect">
            <a:avLst>
              <a:gd name="adj" fmla="val 16667"/>
            </a:avLst>
          </a:prstGeom>
          <a:solidFill>
            <a:srgbClr val="bbe0e3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Straight Arrow Connector 4"/>
          <p:cNvCxnSpPr/>
          <p:nvPr/>
        </p:nvCxnSpPr>
        <p:spPr>
          <a:xfrm flipV="1">
            <a:off x="3733920" y="1905840"/>
            <a:ext cx="1296000" cy="2896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8" name="Straight Arrow Connector 8"/>
          <p:cNvCxnSpPr/>
          <p:nvPr/>
        </p:nvCxnSpPr>
        <p:spPr>
          <a:xfrm flipV="1">
            <a:off x="6477120" y="1905840"/>
            <a:ext cx="1296000" cy="2896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9" name="Straight Arrow Connector 2"/>
          <p:cNvCxnSpPr/>
          <p:nvPr/>
        </p:nvCxnSpPr>
        <p:spPr>
          <a:xfrm>
            <a:off x="2286000" y="1906200"/>
            <a:ext cx="1448640" cy="2896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Straight Arrow Connector 7"/>
          <p:cNvCxnSpPr/>
          <p:nvPr/>
        </p:nvCxnSpPr>
        <p:spPr>
          <a:xfrm>
            <a:off x="5029200" y="1906200"/>
            <a:ext cx="1448640" cy="2896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1" name="TextBox 9"/>
          <p:cNvSpPr/>
          <p:nvPr/>
        </p:nvSpPr>
        <p:spPr>
          <a:xfrm>
            <a:off x="1752480" y="129708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AL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7315200" y="129708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AL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3"/>
          <p:cNvSpPr/>
          <p:nvPr/>
        </p:nvSpPr>
        <p:spPr>
          <a:xfrm>
            <a:off x="2438280" y="487836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LORATORY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4"/>
          <p:cNvSpPr/>
          <p:nvPr/>
        </p:nvSpPr>
        <p:spPr>
          <a:xfrm>
            <a:off x="5943600" y="487836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5"/>
          <p:cNvSpPr/>
          <p:nvPr/>
        </p:nvSpPr>
        <p:spPr>
          <a:xfrm>
            <a:off x="4495680" y="144936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6"/>
          <p:cNvSpPr/>
          <p:nvPr/>
        </p:nvSpPr>
        <p:spPr>
          <a:xfrm rot="3906600">
            <a:off x="2293560" y="27550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7"/>
          <p:cNvSpPr/>
          <p:nvPr/>
        </p:nvSpPr>
        <p:spPr>
          <a:xfrm rot="3880200">
            <a:off x="5117760" y="27752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8"/>
          <p:cNvSpPr/>
          <p:nvPr/>
        </p:nvSpPr>
        <p:spPr>
          <a:xfrm rot="17553000">
            <a:off x="3822840" y="25210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brief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9"/>
          <p:cNvSpPr/>
          <p:nvPr/>
        </p:nvSpPr>
        <p:spPr>
          <a:xfrm rot="17581800">
            <a:off x="6542280" y="25520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brief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11480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 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3"/>
          <p:cNvSpPr/>
          <p:nvPr/>
        </p:nvSpPr>
        <p:spPr>
          <a:xfrm>
            <a:off x="0" y="19810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22"/>
          <p:cNvSpPr/>
          <p:nvPr/>
        </p:nvSpPr>
        <p:spPr>
          <a:xfrm flipH="1">
            <a:off x="1371600" y="4268880"/>
            <a:ext cx="533520" cy="21564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27"/>
          <p:cNvSpPr/>
          <p:nvPr/>
        </p:nvSpPr>
        <p:spPr>
          <a:xfrm>
            <a:off x="1219320" y="23637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TextBox 29" descr=""/>
          <p:cNvPicPr/>
          <p:nvPr/>
        </p:nvPicPr>
        <p:blipFill>
          <a:blip r:embed="rId1"/>
          <a:stretch/>
        </p:blipFill>
        <p:spPr>
          <a:xfrm>
            <a:off x="1835280" y="3657600"/>
            <a:ext cx="6827760" cy="107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So Let</a:t>
            </a:r>
            <a:r>
              <a:rPr b="0" lang="ja-JP" sz="4000" spc="-1" strike="noStrike">
                <a:solidFill>
                  <a:srgbClr val="2b5ca9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s Analyse Math CAMPPP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294920"/>
            <a:ext cx="4191120" cy="4038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he key characteristics of professional lear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is Camppp strong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is Camppp weak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ontent Placeholder 2"/>
          <p:cNvSpPr/>
          <p:nvPr/>
        </p:nvSpPr>
        <p:spPr>
          <a:xfrm>
            <a:off x="4724280" y="1295280"/>
            <a:ext cx="44197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 Teacher-dir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 Research/evidence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p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 Sust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 Classroom embe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 Goal al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 Content r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So Let</a:t>
            </a:r>
            <a:r>
              <a:rPr b="0" lang="ja-JP" sz="4000" spc="-1" strike="noStrike">
                <a:solidFill>
                  <a:srgbClr val="2b5ca9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s Analyse Math CAMPPP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943600" y="1371600"/>
            <a:ext cx="2743200" cy="4038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95000"/>
          </a:bodyPr>
          <a:p>
            <a:pPr marL="37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has Math CAMPPP done to try to overcome some of the challenges of a week-long PD experience in summer month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ontent Placeholder 2"/>
          <p:cNvSpPr/>
          <p:nvPr/>
        </p:nvSpPr>
        <p:spPr>
          <a:xfrm>
            <a:off x="152280" y="1371600"/>
            <a:ext cx="4419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llabo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eacher-dir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search-sup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st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assroom embe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oal al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tent r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3962520" y="1371600"/>
            <a:ext cx="1600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te on a scale of 1 to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Catherine Bruce</cp:lastModifiedBy>
  <dcterms:modified xsi:type="dcterms:W3CDTF">2012-07-25T02:53:04Z</dcterms:modified>
  <cp:revision>36</cp:revision>
  <dc:subject/>
  <dc:title>&lt;Title&gt;</dc:title>
</cp:coreProperties>
</file>